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E38-83D9-404F-83E5-6E5276133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B6EA-D188-426B-A35F-FC1643E5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7A3D-A60E-4B73-81D5-9B8CED80C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5759-21C9-49A4-9ED0-BD0315B9D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AED9-3031-4807-893E-E1BAFF52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7D4B-3BF7-4596-918A-403DE30AA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28CD-FC3C-4803-A933-8BB76CC5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B67C-1BB8-4B0B-9792-B712FE90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D5FB-B315-42A1-BDB4-F26A47320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7BA7-58C0-477D-8692-D932DB2C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3D2-D07C-4D36-B90E-48DE7B58A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15B-B586-4265-B5CA-75D2C062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438F-CD16-4A5D-8151-406D9A27E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Differentiation%20Animation.exe" TargetMode="External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Differen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on 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ng the Gradient of a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6056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a normal to the curve then a tangent at that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9520" y="5373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491000" y="13003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364500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459640" y="537372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1214280" y="1006560"/>
            <a:ext cx="304812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78240" y="2322360"/>
            <a:ext cx="252360" cy="25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003400" y="187956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681000">
            <a:off x="2705760" y="2440440"/>
            <a:ext cx="144360" cy="14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7880" y="2584440"/>
            <a:ext cx="7164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155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836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ng the Gradient of a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6056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the gradient of the tang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9520" y="5373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91000" y="13003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24720" y="364500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459640" y="537372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4280" y="1006560"/>
            <a:ext cx="304812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03400" y="1879560"/>
            <a:ext cx="151308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8681000">
            <a:off x="2705760" y="2440440"/>
            <a:ext cx="144360" cy="14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2584440"/>
            <a:ext cx="7164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9280" y="1557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836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800"/>
                            </p:stCondLst>
                            <p:childTnLst>
                              <p:par>
                                <p:cTn id="122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600"/>
                            </p:stCondLst>
                            <p:childTnLst>
                              <p:par>
                                <p:cTn id="126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3400"/>
                            </p:stCondLst>
                            <p:childTnLst>
                              <p:par>
                                <p:cTn id="130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4200"/>
                            </p:stCondLst>
                            <p:childTnLst>
                              <p:par>
                                <p:cTn id="134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ulating the Gradient of a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6056280"/>
            <a:ext cx="8640720" cy="39888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e of Chan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the graph is equal to the gradient at that 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214280" y="1006560"/>
            <a:ext cx="3048120" cy="330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7880" y="2584440"/>
            <a:ext cx="71640" cy="71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83664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n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49680" y="1595520"/>
            <a:ext cx="7128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25560" y="3559320"/>
            <a:ext cx="71640" cy="71280"/>
          </a:xfrm>
          <a:prstGeom prst="ellips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61840" y="314172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0.5,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65360" y="1197000"/>
            <a:ext cx="12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1.5,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5796000" y="1557360"/>
            <a:ext cx="1485720" cy="6001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9080" y="3284640"/>
            <a:ext cx="2303280" cy="1191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dient of the tangent equals the gradient of the curve at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844640"/>
            <a:ext cx="2087640" cy="916920"/>
          </a:xfrm>
          <a:prstGeom prst="rect">
            <a:avLst/>
          </a:prstGeom>
          <a:solidFill>
            <a:srgbClr val="ff0000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asketball is travelling at 10m/s at this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3"/>
          <a:stretch/>
        </p:blipFill>
        <p:spPr>
          <a:xfrm>
            <a:off x="5580000" y="2421000"/>
            <a:ext cx="2057400" cy="274320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i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1268280"/>
            <a:ext cx="5184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calculated values for the gradients to complete the following 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971640" y="2565360"/>
          <a:ext cx="7200720" cy="1197000"/>
        </p:xfrm>
        <a:graphic>
          <a:graphicData uri="http://schemas.openxmlformats.org/drawingml/2006/table">
            <a:tbl>
              <a:tblPr/>
              <a:tblGrid>
                <a:gridCol w="1200240"/>
                <a:gridCol w="1199880"/>
                <a:gridCol w="1200240"/>
                <a:gridCol w="1200240"/>
                <a:gridCol w="1200240"/>
                <a:gridCol w="1199880"/>
              </a:tblGrid>
              <a:tr h="57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  <a:tr h="620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eaec"/>
                    </a:solidFill>
                  </a:tcPr>
                </a:tc>
              </a:tr>
            </a:tbl>
          </a:graphicData>
        </a:graphic>
      </p:graphicFrame>
      <p:sp>
        <p:nvSpPr>
          <p:cNvPr id="155" name=""/>
          <p:cNvSpPr/>
          <p:nvPr/>
        </p:nvSpPr>
        <p:spPr>
          <a:xfrm>
            <a:off x="2378160" y="3141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64000" y="3141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88000" y="314172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67280" y="3141720"/>
            <a:ext cx="9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3141720"/>
            <a:ext cx="898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– </a:t>
            </a:r>
            <a:r>
              <a:rPr b="1" lang="en-US" sz="3600" spc="-1" strike="noStrike">
                <a:solidFill>
                  <a:srgbClr val="000000"/>
                </a:solidFill>
                <a:latin typeface="Mistr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08720" y="4797360"/>
            <a:ext cx="2735280" cy="703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w plot these points on squared pap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ient Fun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405400" y="1125360"/>
            <a:ext cx="3024360" cy="1435320"/>
          </a:xfrm>
          <a:prstGeom prst="rect">
            <a:avLst/>
          </a:prstGeom>
          <a:solidFill>
            <a:srgbClr val="bbe0e3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have plotted the value of the gradient at each poi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e curve for 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≤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≤ 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4359240" cy="5656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442120" y="3284640"/>
            <a:ext cx="2952720" cy="89856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called the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radient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84840" y="5157720"/>
            <a:ext cx="4066920" cy="398880"/>
          </a:xfrm>
          <a:prstGeom prst="rect">
            <a:avLst/>
          </a:prstGeom>
          <a:solidFill>
            <a:srgbClr val="66ff33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 the equation of thi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5548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(0,20) and (2,0) we 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908000" y="1589040"/>
                <a:ext cx="17290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908000" y="2895480"/>
                <a:ext cx="16704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8000" y="4114800"/>
                <a:ext cx="134316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908000" y="5334120"/>
                <a:ext cx="119412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646600" y="3278160"/>
                <a:ext cx="101448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148360" y="4286160"/>
                <a:ext cx="253656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73" name=""/>
          <p:cNvGrpSpPr/>
          <p:nvPr/>
        </p:nvGrpSpPr>
        <p:grpSpPr>
          <a:xfrm>
            <a:off x="5276880" y="5149800"/>
            <a:ext cx="2521080" cy="720720"/>
            <a:chOff x="5276880" y="5149800"/>
            <a:chExt cx="2521080" cy="720720"/>
          </a:xfrm>
        </p:grpSpPr>
        <p:sp>
          <p:nvSpPr>
            <p:cNvPr id="174" name=""/>
            <p:cNvSpPr/>
            <p:nvPr/>
          </p:nvSpPr>
          <p:spPr>
            <a:xfrm>
              <a:off x="5276880" y="5149800"/>
              <a:ext cx="2521080" cy="72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5" name=""/>
                <p:cNvSpPr txBox="1"/>
                <p:nvPr/>
              </p:nvSpPr>
              <p:spPr>
                <a:xfrm>
                  <a:off x="5580000" y="5324400"/>
                  <a:ext cx="19098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804000" y="549360"/>
            <a:ext cx="1751040" cy="22716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476360" y="1413000"/>
            <a:ext cx="23036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92360" y="2637000"/>
            <a:ext cx="2303280" cy="122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33720"/>
            <a:ext cx="2303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5013360"/>
            <a:ext cx="230328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19640" y="3068640"/>
            <a:ext cx="2303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4005360"/>
            <a:ext cx="2736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5084640"/>
            <a:ext cx="273672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79400" y="708120"/>
            <a:ext cx="7550280" cy="51274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03400" y="5992920"/>
            <a:ext cx="509760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knowledge of quadratic functions to obtain the equation of this fun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68360" y="5554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s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36840" y="1782720"/>
                <a:ext cx="247464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262480" y="3414600"/>
                <a:ext cx="23274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0" name=""/>
          <p:cNvSpPr/>
          <p:nvPr/>
        </p:nvSpPr>
        <p:spPr>
          <a:xfrm>
            <a:off x="539640" y="2852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x = 2, y =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1204920" y="3424320"/>
                <a:ext cx="316080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628640" y="4202280"/>
                <a:ext cx="140040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838160" y="4849920"/>
                <a:ext cx="101304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5262480" y="4119480"/>
                <a:ext cx="23875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95" name=""/>
          <p:cNvGrpSpPr/>
          <p:nvPr/>
        </p:nvGrpSpPr>
        <p:grpSpPr>
          <a:xfrm>
            <a:off x="5076720" y="4973760"/>
            <a:ext cx="2521080" cy="720720"/>
            <a:chOff x="5076720" y="4973760"/>
            <a:chExt cx="2521080" cy="720720"/>
          </a:xfrm>
        </p:grpSpPr>
        <p:sp>
          <p:nvSpPr>
            <p:cNvPr id="196" name=""/>
            <p:cNvSpPr/>
            <p:nvPr/>
          </p:nvSpPr>
          <p:spPr>
            <a:xfrm>
              <a:off x="5076720" y="4973760"/>
              <a:ext cx="2521080" cy="72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7" name=""/>
                <p:cNvSpPr txBox="1"/>
                <p:nvPr/>
              </p:nvSpPr>
              <p:spPr>
                <a:xfrm>
                  <a:off x="5262480" y="5072040"/>
                  <a:ext cx="214812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651640" y="620640"/>
            <a:ext cx="2784240" cy="1890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332000" y="1700280"/>
            <a:ext cx="280836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68360" y="2781360"/>
            <a:ext cx="2808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116000" y="3429000"/>
            <a:ext cx="3313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4149720"/>
            <a:ext cx="216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4797360"/>
            <a:ext cx="216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148360" y="3429000"/>
            <a:ext cx="259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19640" y="4076640"/>
            <a:ext cx="252108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03640" y="4869000"/>
            <a:ext cx="26640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11280" y="1916280"/>
            <a:ext cx="41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of the gradient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1280" y="852480"/>
            <a:ext cx="38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ation of the projectile curv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63640" y="3068640"/>
            <a:ext cx="3384720" cy="682200"/>
          </a:xfrm>
          <a:prstGeom prst="rect">
            <a:avLst/>
          </a:prstGeom>
          <a:solidFill>
            <a:srgbClr val="ff0000"/>
          </a:solidFill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900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you spot a link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1280" y="4454640"/>
            <a:ext cx="48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e is another pair that might help yo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580000" y="1771560"/>
            <a:ext cx="2521080" cy="720720"/>
            <a:chOff x="5580000" y="1771560"/>
            <a:chExt cx="2521080" cy="720720"/>
          </a:xfrm>
        </p:grpSpPr>
        <p:sp>
          <p:nvSpPr>
            <p:cNvPr id="212" name=""/>
            <p:cNvSpPr/>
            <p:nvPr/>
          </p:nvSpPr>
          <p:spPr>
            <a:xfrm>
              <a:off x="5580000" y="1771560"/>
              <a:ext cx="2521080" cy="72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5883120" y="1946160"/>
                  <a:ext cx="1909800" cy="44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0</m:t>
                      </m:r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14" name=""/>
          <p:cNvGrpSpPr/>
          <p:nvPr/>
        </p:nvGrpSpPr>
        <p:grpSpPr>
          <a:xfrm>
            <a:off x="5580000" y="692280"/>
            <a:ext cx="2521080" cy="720720"/>
            <a:chOff x="5580000" y="692280"/>
            <a:chExt cx="2521080" cy="720720"/>
          </a:xfrm>
        </p:grpSpPr>
        <p:sp>
          <p:nvSpPr>
            <p:cNvPr id="215" name=""/>
            <p:cNvSpPr/>
            <p:nvPr/>
          </p:nvSpPr>
          <p:spPr>
            <a:xfrm>
              <a:off x="5580000" y="692280"/>
              <a:ext cx="2521080" cy="7207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765760" y="790560"/>
                  <a:ext cx="2148120" cy="531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5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17" name=""/>
          <p:cNvSpPr/>
          <p:nvPr/>
        </p:nvSpPr>
        <p:spPr>
          <a:xfrm>
            <a:off x="5580000" y="5372280"/>
            <a:ext cx="2521080" cy="720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5811840" y="5467320"/>
                <a:ext cx="20574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9" name=""/>
          <p:cNvSpPr/>
          <p:nvPr/>
        </p:nvSpPr>
        <p:spPr>
          <a:xfrm>
            <a:off x="5580000" y="4292640"/>
            <a:ext cx="2521080" cy="72072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796000" y="4387680"/>
                <a:ext cx="2087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5508720" y="4221000"/>
            <a:ext cx="2663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508720" y="5300640"/>
            <a:ext cx="266364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1360" y="2530440"/>
            <a:ext cx="3457440" cy="24098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250920" y="1587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dient Function, Secant &amp; Tan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16040" y="1555920"/>
            <a:ext cx="3543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image to open GSP fil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dient Function, Secant &amp; Tang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3"/>
          <a:stretch/>
        </p:blipFill>
        <p:spPr>
          <a:xfrm>
            <a:off x="754200" y="2593800"/>
            <a:ext cx="3466800" cy="24195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4844880" y="1557360"/>
            <a:ext cx="35434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image to open Flash anim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ion Ani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76120" y="819000"/>
            <a:ext cx="8569440" cy="51231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71640" y="6021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is happening at each stage of this travel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63840" y="441324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56000" y="4149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2708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484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321300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3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5080" y="1587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iation : the gradient of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5646600" y="4005360"/>
                <a:ext cx="158292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5646600" y="4950000"/>
                <a:ext cx="23101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5646600" y="5767560"/>
                <a:ext cx="231012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−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990800" y="1679400"/>
            <a:ext cx="4476600" cy="160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3903840" y="2916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774800" y="3162240"/>
            <a:ext cx="489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422440" y="1247400"/>
            <a:ext cx="0" cy="23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902040" y="2033280"/>
            <a:ext cx="1224000" cy="8636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113440" y="202104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27480" y="2052720"/>
            <a:ext cx="0" cy="11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903840" y="2832120"/>
            <a:ext cx="1228680" cy="71280"/>
            <a:chOff x="3903840" y="2832120"/>
            <a:chExt cx="1228680" cy="71280"/>
          </a:xfrm>
        </p:grpSpPr>
        <p:sp>
          <p:nvSpPr>
            <p:cNvPr id="240" name=""/>
            <p:cNvSpPr/>
            <p:nvPr/>
          </p:nvSpPr>
          <p:spPr>
            <a:xfrm>
              <a:off x="5059440" y="2832120"/>
              <a:ext cx="73080" cy="7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03840" y="2903400"/>
              <a:ext cx="1223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889440" y="31449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13440" y="314172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89440" y="288432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92880" y="15098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81800" y="3100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135160" y="1112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51160" y="308772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6480" y="24400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(x, 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514680" y="178452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, 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72080" y="3100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99160" y="31194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879720" y="3481560"/>
            <a:ext cx="1258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70400" y="34369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619280" y="4197240"/>
            <a:ext cx="3456000" cy="368280"/>
          </a:xfrm>
          <a:prstGeom prst="rect">
            <a:avLst/>
          </a:prstGeom>
          <a:solidFill>
            <a:srgbClr val="81ffff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dient of PQ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435640" y="4076640"/>
            <a:ext cx="266364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4941720"/>
            <a:ext cx="26636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580000" y="5734080"/>
            <a:ext cx="266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35080" y="15876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iation : the derivative of  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GB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1990800" y="1679400"/>
            <a:ext cx="4476600" cy="1609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3903840" y="2916360"/>
            <a:ext cx="0" cy="2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774800" y="3162240"/>
            <a:ext cx="4897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422440" y="1247400"/>
            <a:ext cx="0" cy="2305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902040" y="2033280"/>
            <a:ext cx="1224000" cy="863640"/>
          </a:xfrm>
          <a:prstGeom prst="line">
            <a:avLst/>
          </a:prstGeom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113440" y="202104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059440" y="2832120"/>
            <a:ext cx="73080" cy="7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127480" y="2052720"/>
            <a:ext cx="0" cy="11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03840" y="2903400"/>
            <a:ext cx="122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89440" y="314496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3440" y="3141720"/>
            <a:ext cx="36360" cy="36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520" bIns="-20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782800" y="2600280"/>
            <a:ext cx="2808360" cy="50472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89440" y="2884320"/>
            <a:ext cx="36360" cy="36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92880" y="150984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481800" y="3100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35160" y="1112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351160" y="3087720"/>
            <a:ext cx="14436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6480" y="244008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(x, 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14680" y="1784520"/>
            <a:ext cx="176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Q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(x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, f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GB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772080" y="310032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799160" y="3119400"/>
            <a:ext cx="64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53000" y="2421000"/>
            <a:ext cx="2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2556000" y="4869000"/>
            <a:ext cx="4032000" cy="1368360"/>
            <a:chOff x="2556000" y="4869000"/>
            <a:chExt cx="4032000" cy="1368360"/>
          </a:xfrm>
        </p:grpSpPr>
        <p:sp>
          <p:nvSpPr>
            <p:cNvPr id="283" name=""/>
            <p:cNvSpPr/>
            <p:nvPr/>
          </p:nvSpPr>
          <p:spPr>
            <a:xfrm>
              <a:off x="2556000" y="4869000"/>
              <a:ext cx="4032000" cy="1368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84" name=""/>
                <p:cNvSpPr txBox="1"/>
                <p:nvPr/>
              </p:nvSpPr>
              <p:spPr>
                <a:xfrm>
                  <a:off x="2705040" y="5014800"/>
                  <a:ext cx="371160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m>
                        <m:m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</m:mr>
                        <m:mr>
                          <m:e>
                            <m:r>
                              <m:t xml:space="preserve">h</m:t>
                            </m:r>
                            <m:r>
                              <m:t xml:space="preserve">→</m:t>
                            </m:r>
                            <m:r>
                              <m:t xml:space="preserve">0</m:t>
                            </m:r>
                          </m:e>
                        </m:mr>
                      </m:m>
                      <m:f>
                        <m:num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h</m:t>
                              </m:r>
                            </m:e>
                          </m:d>
                          <m:r>
                            <m:t xml:space="preserve">−</m:t>
                          </m:r>
                          <m:r>
                            <m:t xml:space="preserve">f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</m:e>
                          </m:d>
                        </m:num>
                        <m:den>
                          <m:r>
                            <m:t xml:space="preserve">h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85" name=""/>
          <p:cNvSpPr/>
          <p:nvPr/>
        </p:nvSpPr>
        <p:spPr>
          <a:xfrm>
            <a:off x="2397240" y="4149720"/>
            <a:ext cx="4319640" cy="368280"/>
          </a:xfrm>
          <a:prstGeom prst="rect">
            <a:avLst/>
          </a:prstGeom>
          <a:solidFill>
            <a:srgbClr val="85ff85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dient of tangent at P is given b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76120" y="819000"/>
            <a:ext cx="8569440" cy="512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900000" y="5877000"/>
            <a:ext cx="100980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596360" y="5886360"/>
            <a:ext cx="1009440" cy="6858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63840" y="441324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56000" y="4149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916360" y="2708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59280" y="1484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308720" y="321300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0.26753 -4.44444E-006 E">
                                      <p:cBhvr>
                                        <p:cTn id="24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path" presetID="63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.26753 -4.44444E-006 L 0.7243 -4.44444E-006 E">
                                      <p:cBhvr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8 -0.00139 L -0.74826 -0.00139 E">
                                      <p:cBhvr>
                                        <p:cTn id="3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6120" y="819000"/>
            <a:ext cx="8569440" cy="5123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avel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71640" y="602136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average speed of the car in each se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63840" y="441324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6000" y="4149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16360" y="2708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59280" y="148428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308720" y="321300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12920" y="3173400"/>
            <a:ext cx="4680000" cy="703800"/>
          </a:xfrm>
          <a:prstGeom prst="rect">
            <a:avLst/>
          </a:prstGeom>
          <a:solidFill>
            <a:srgbClr val="ffff00">
              <a:alpha val="85000"/>
            </a:srgbClr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link between the speed of the car and the grap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508040" y="11206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15960" y="1130400"/>
            <a:ext cx="6081840" cy="45702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4000" y="6056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hape is the flight path of the basketbal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6056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what is happening at each stage of this projectile motion grap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9520" y="5373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78240" y="2322360"/>
            <a:ext cx="252360" cy="25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91000" y="13003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524720" y="364500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459640" y="537372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24720" y="364500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459640" y="537372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9520" y="5373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17600" y="4902120"/>
            <a:ext cx="985680" cy="1279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478240" y="2322360"/>
            <a:ext cx="252360" cy="25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1000" y="13003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0.13385 -0.30995 C 0.21233 -0.45903 0.27378 -0.51481 0.30226 -0.53264 C 0.35052 -0.56805 0.37274 -0.56551 0.37691 -0.56829 L 0.39913 -0.57199 E">
                                      <p:cBhvr>
                                        <p:cTn id="72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722 -0.57245 L 0.44948 -0.56504 C 0.48333 -0.55741 0.54392 -0.51481 0.57552 -0.47477 C 0.59531 -0.4581 0.67552 -0.31921 0.69219 -0.29259 L 0.81059 0.0007 E">
                                      <p:cBhvr>
                                        <p:cTn id="7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7748280" cy="42116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179800" y="15876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jectile 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3200" y="1149480"/>
            <a:ext cx="114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(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035920" y="5680080"/>
            <a:ext cx="71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605628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instantaneous speed of the projectile at each poi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9520" y="53737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24720" y="364500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459640" y="5373720"/>
            <a:ext cx="25272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16360" y="3645000"/>
            <a:ext cx="2735280" cy="1296720"/>
          </a:xfrm>
          <a:prstGeom prst="cloudCallout">
            <a:avLst>
              <a:gd name="adj1" fmla="val 60736"/>
              <a:gd name="adj2" fmla="val 116217"/>
            </a:avLst>
          </a:prstGeom>
          <a:solidFill>
            <a:srgbClr val="bbe0e3">
              <a:alpha val="8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can we calculate th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78240" y="2322360"/>
            <a:ext cx="252360" cy="25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1000" y="1300320"/>
            <a:ext cx="252360" cy="252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2T00:16:00Z</dcterms:created>
  <dc:creator>MAitchison</dc:creator>
  <dc:description/>
  <cp:keywords>Differentiation</cp:keywords>
  <dc:language>en-US</dc:language>
  <cp:lastModifiedBy>MAitchison</cp:lastModifiedBy>
  <dcterms:modified xsi:type="dcterms:W3CDTF">2006-09-15T00:17:18Z</dcterms:modified>
  <cp:revision>46</cp:revision>
  <dc:subject>Calculus</dc:subject>
  <dc:title>Differentiation - Motion Graphs</dc:title>
</cp:coreProperties>
</file>