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922-5F1F-4B01-A23C-95A82EC1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538-EBC2-4F05-864B-A07C9C81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9E7-A71A-46F0-9287-9E116741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2D2-6ABE-470B-AEED-649A85E8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58F-6534-45CC-878F-A4C9EC82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668-20DD-4850-824B-A3D10D5C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597-1EDE-4DD1-8036-22C638C8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2EA-1030-41B4-BA8A-052B7B25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387-4BBA-4D01-B508-0E7AE690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449-1E18-4DD3-96EC-76ADF55F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7EF-A868-411A-9824-211FB2CF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CDC-6C88-457C-8094-E535E43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CE6D-E83C-4930-A991-5852A439F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ol.jsc.nasa.gov/sseop/clickmap/" TargetMode="External"/><Relationship Id="rId2" Type="http://schemas.openxmlformats.org/officeDocument/2006/relationships/hyperlink" Target="http://earth.google.com/" TargetMode="External"/><Relationship Id="rId3" Type="http://schemas.openxmlformats.org/officeDocument/2006/relationships/hyperlink" Target="http://local.live.com/" TargetMode="External"/><Relationship Id="rId4" Type="http://schemas.openxmlformats.org/officeDocument/2006/relationships/hyperlink" Target="http://landmap.ac.uk/ipc/ccrs/chapter2/chapter2_7_e.html" TargetMode="Externa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cal.live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’s Notes:  Digital Imag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148572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images from space can be found at the following NASA web s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ol.jsc.nasa.gov/sseop/clickma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he map for images of that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include in your search results information such as Altitude and Focal Length of the camera used by selecting FCLT and ALT at the bottom of the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s can be used freely if attributed to N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dded impact Google Earth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arth.google.com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 can be used to zoom from space to Tower Bridge, the Channel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ing on your location you may find better resolution images of your town on Microsoft’s Live Local site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ocal.live.com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on aerial photograph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andmap.ac.uk/ipc/ccrs/chapter2/chapter2_7_e.htm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1305000" cy="857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6200000">
            <a:off x="1774800" y="1266480"/>
            <a:ext cx="142920" cy="196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9d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63560" y="1142640"/>
            <a:ext cx="1389240" cy="496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498320" y="1142640"/>
            <a:ext cx="1554120" cy="496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63200" y="6103800"/>
            <a:ext cx="228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98680" y="11430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16240" y="2250720"/>
            <a:ext cx="0" cy="3854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16240" y="1141560"/>
            <a:ext cx="0" cy="11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30080" y="6165720"/>
            <a:ext cx="237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105264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234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3640" y="3860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above ground (Alt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413000"/>
            <a:ext cx="17269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080" y="62355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2682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22720" y="131760"/>
            <a:ext cx="46911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 Triangles i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116000" y="1267920"/>
            <a:ext cx="576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1305000" cy="857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6200000">
            <a:off x="1774800" y="1266480"/>
            <a:ext cx="142920" cy="196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9d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3560" y="1142640"/>
            <a:ext cx="1389240" cy="496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498320" y="1142640"/>
            <a:ext cx="1554120" cy="496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3200" y="6103800"/>
            <a:ext cx="228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98680" y="11430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216240" y="2250720"/>
            <a:ext cx="0" cy="3854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216240" y="1141560"/>
            <a:ext cx="0" cy="11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30080" y="6165720"/>
            <a:ext cx="237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105264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234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08240" y="386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5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65480" y="1476360"/>
            <a:ext cx="1150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0080" y="62355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1538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25560" y="77760"/>
            <a:ext cx="548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16000" y="1267920"/>
            <a:ext cx="576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1628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446880" y="1357200"/>
            <a:ext cx="1398240" cy="1015920"/>
            <a:chOff x="6446880" y="1357200"/>
            <a:chExt cx="1398240" cy="1015920"/>
          </a:xfrm>
        </p:grpSpPr>
        <p:sp>
          <p:nvSpPr>
            <p:cNvPr id="224" name=""/>
            <p:cNvSpPr/>
            <p:nvPr/>
          </p:nvSpPr>
          <p:spPr>
            <a:xfrm>
              <a:off x="6446880" y="1357200"/>
              <a:ext cx="1398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5 k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02760" y="1868040"/>
              <a:ext cx="113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888160" y="2422440"/>
            <a:ext cx="3076560" cy="1015920"/>
            <a:chOff x="5888160" y="2422440"/>
            <a:chExt cx="3076560" cy="1015920"/>
          </a:xfrm>
        </p:grpSpPr>
        <p:sp>
          <p:nvSpPr>
            <p:cNvPr id="227" name=""/>
            <p:cNvSpPr/>
            <p:nvPr/>
          </p:nvSpPr>
          <p:spPr>
            <a:xfrm>
              <a:off x="6396120" y="2422440"/>
              <a:ext cx="2568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35 000 000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90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88160" y="270180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99160" y="2927520"/>
              <a:ext cx="222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495760" y="5510160"/>
            <a:ext cx="32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  =  30 000 0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435640" y="6211800"/>
            <a:ext cx="1872720" cy="513000"/>
            <a:chOff x="5435640" y="6211800"/>
            <a:chExt cx="1872720" cy="513000"/>
          </a:xfrm>
        </p:grpSpPr>
        <p:sp>
          <p:nvSpPr>
            <p:cNvPr id="232" name=""/>
            <p:cNvSpPr/>
            <p:nvPr/>
          </p:nvSpPr>
          <p:spPr>
            <a:xfrm>
              <a:off x="5435640" y="6211800"/>
              <a:ext cx="1796400" cy="51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96480" y="6240600"/>
              <a:ext cx="181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  =  30 k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495760" y="4797360"/>
            <a:ext cx="10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883120" y="3692520"/>
            <a:ext cx="2360880" cy="459720"/>
            <a:chOff x="5883120" y="3692520"/>
            <a:chExt cx="2360880" cy="459720"/>
          </a:xfrm>
        </p:grpSpPr>
        <p:sp>
          <p:nvSpPr>
            <p:cNvPr id="236" name=""/>
            <p:cNvSpPr/>
            <p:nvPr/>
          </p:nvSpPr>
          <p:spPr>
            <a:xfrm>
              <a:off x="6423120" y="3692520"/>
              <a:ext cx="18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500 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83120" y="36925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11800" y="4797360"/>
            <a:ext cx="2897280" cy="459720"/>
            <a:chOff x="6211800" y="4797360"/>
            <a:chExt cx="2897280" cy="459720"/>
          </a:xfrm>
        </p:grpSpPr>
        <p:sp>
          <p:nvSpPr>
            <p:cNvPr id="239" name=""/>
            <p:cNvSpPr/>
            <p:nvPr/>
          </p:nvSpPr>
          <p:spPr>
            <a:xfrm>
              <a:off x="7669080" y="47973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20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11800" y="4797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500 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476280"/>
            <a:ext cx="5111640" cy="4316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4840" y="473040"/>
            <a:ext cx="513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gordon Academy Playin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ial 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itude = 4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 length = 15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168440" y="2205000"/>
            <a:ext cx="4692960" cy="4365720"/>
            <a:chOff x="4168440" y="2205000"/>
            <a:chExt cx="4692960" cy="43657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4211640" y="2205000"/>
              <a:ext cx="464976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731480" y="4053240"/>
              <a:ext cx="15588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39920" y="2491560"/>
              <a:ext cx="15552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9336800">
              <a:off x="4384440" y="3335400"/>
              <a:ext cx="3938760" cy="2052000"/>
            </a:xfrm>
            <a:prstGeom prst="roundRect">
              <a:avLst>
                <a:gd name="adj" fmla="val 50000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8360" y="4005360"/>
            <a:ext cx="4174920" cy="1044360"/>
            <a:chOff x="468360" y="4005360"/>
            <a:chExt cx="4174920" cy="1044360"/>
          </a:xfrm>
        </p:grpSpPr>
        <p:sp>
          <p:nvSpPr>
            <p:cNvPr id="249" name=""/>
            <p:cNvSpPr/>
            <p:nvPr/>
          </p:nvSpPr>
          <p:spPr>
            <a:xfrm>
              <a:off x="468360" y="4005360"/>
              <a:ext cx="331164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the 100 metre track marked correctly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276720" y="4149720"/>
              <a:ext cx="13665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68360" y="836640"/>
            <a:ext cx="3095640" cy="431640"/>
          </a:xfrm>
          <a:prstGeom prst="rect">
            <a:avLst/>
          </a:prstGeom>
          <a:solidFill>
            <a:srgbClr val="9d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933720" cy="3532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833400"/>
            <a:ext cx="3614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wer Bridge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erial 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titude = 2500 ft (762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cal length = 15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5473800" cy="1776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55920" y="4894200"/>
            <a:ext cx="44560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6093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span of the bri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68360" y="3821040"/>
            <a:ext cx="237492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8360" y="476280"/>
            <a:ext cx="4824360" cy="3095640"/>
            <a:chOff x="468360" y="476280"/>
            <a:chExt cx="4824360" cy="309564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468360" y="476280"/>
              <a:ext cx="482436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310920" y="1850040"/>
              <a:ext cx="52560" cy="5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69320" y="1758960"/>
              <a:ext cx="52560" cy="5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72680" y="3809520"/>
            <a:ext cx="499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glish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to taken onboard Space Shu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0520" y="5335200"/>
            <a:ext cx="41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titude = 126 miles (203 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cal length = 9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51640" y="836640"/>
            <a:ext cx="30970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shortest distance across the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k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86320" y="356076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: NA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Di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er Bridge – 24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Channel – 20 miles or 32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700280"/>
            <a:ext cx="475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 in 20 c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in 3.75 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2.5 k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in 6 k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 in 8 k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240984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ilar Triangles &amp; Phot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49568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argement Factor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96000" y="5504040"/>
            <a:ext cx="2016000" cy="576000"/>
            <a:chOff x="5796000" y="5504040"/>
            <a:chExt cx="2016000" cy="576000"/>
          </a:xfrm>
        </p:grpSpPr>
        <p:sp>
          <p:nvSpPr>
            <p:cNvPr id="49" name=""/>
            <p:cNvSpPr/>
            <p:nvPr/>
          </p:nvSpPr>
          <p:spPr>
            <a:xfrm>
              <a:off x="5796000" y="5504040"/>
              <a:ext cx="1584360" cy="57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96000" y="554976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= 2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532320" y="4224240"/>
            <a:ext cx="1152360" cy="1015920"/>
            <a:chOff x="3532320" y="4224240"/>
            <a:chExt cx="1152360" cy="1015920"/>
          </a:xfrm>
        </p:grpSpPr>
        <p:sp>
          <p:nvSpPr>
            <p:cNvPr id="52" name=""/>
            <p:cNvSpPr/>
            <p:nvPr/>
          </p:nvSpPr>
          <p:spPr>
            <a:xfrm>
              <a:off x="3532320" y="4224240"/>
              <a:ext cx="115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3760" y="473544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164040" y="5303880"/>
            <a:ext cx="1807920" cy="1015920"/>
            <a:chOff x="3164040" y="5303880"/>
            <a:chExt cx="1807920" cy="1015920"/>
          </a:xfrm>
        </p:grpSpPr>
        <p:sp>
          <p:nvSpPr>
            <p:cNvPr id="55" name=""/>
            <p:cNvSpPr/>
            <p:nvPr/>
          </p:nvSpPr>
          <p:spPr>
            <a:xfrm>
              <a:off x="3316320" y="5303880"/>
              <a:ext cx="1655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64040" y="5551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46680" y="5776920"/>
              <a:ext cx="39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96000" y="45673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237360" y="4295880"/>
            <a:ext cx="2151000" cy="1015920"/>
            <a:chOff x="6237360" y="4295880"/>
            <a:chExt cx="2151000" cy="1015920"/>
          </a:xfrm>
        </p:grpSpPr>
        <p:sp>
          <p:nvSpPr>
            <p:cNvPr id="60" name=""/>
            <p:cNvSpPr/>
            <p:nvPr/>
          </p:nvSpPr>
          <p:spPr>
            <a:xfrm>
              <a:off x="7020000" y="45831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8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237360" y="4295880"/>
              <a:ext cx="936720" cy="1015920"/>
              <a:chOff x="6237360" y="4295880"/>
              <a:chExt cx="936720" cy="1015920"/>
            </a:xfrm>
          </p:grpSpPr>
          <p:sp>
            <p:nvSpPr>
              <p:cNvPr id="62" name=""/>
              <p:cNvSpPr/>
              <p:nvPr/>
            </p:nvSpPr>
            <p:spPr>
              <a:xfrm>
                <a:off x="6237360" y="4295880"/>
                <a:ext cx="936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453360" y="4800600"/>
                <a:ext cx="44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 rot="20835600">
            <a:off x="4932360" y="1125000"/>
            <a:ext cx="2735280" cy="12956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2473400">
            <a:off x="1403280" y="1699560"/>
            <a:ext cx="1727280" cy="657000"/>
          </a:xfrm>
          <a:prstGeom prst="rtTriangl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3640" y="23652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68520" y="14367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989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1332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705200">
            <a:off x="3015720" y="2100240"/>
            <a:ext cx="1429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799000">
            <a:off x="5090760" y="2549160"/>
            <a:ext cx="1429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5239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1557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720" y="350028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value of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5400" y="1691280"/>
            <a:ext cx="8286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24000"/>
                <a:tab algn="l" pos="541440"/>
                <a:tab algn="l" pos="657360"/>
                <a:tab algn="l" pos="990720"/>
                <a:tab algn="l" pos="1763640"/>
                <a:tab algn="l" pos="3060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each case, the pair of triangles are similar. Equal angles are marked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4000"/>
                <a:tab algn="l" pos="541440"/>
                <a:tab algn="l" pos="657360"/>
                <a:tab algn="l" pos="990720"/>
                <a:tab algn="l" pos="1763640"/>
                <a:tab algn="l" pos="3060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levant scale factor (enlargement or re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4000"/>
                <a:tab algn="l" pos="541440"/>
                <a:tab algn="l" pos="657360"/>
                <a:tab algn="l" pos="990720"/>
                <a:tab algn="l" pos="1763640"/>
                <a:tab algn="l" pos="3060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issing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4000"/>
                <a:tab algn="l" pos="541440"/>
                <a:tab algn="l" pos="657360"/>
                <a:tab algn="l" pos="990720"/>
                <a:tab algn="l" pos="1763640"/>
                <a:tab algn="l" pos="3060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90800" y="4097160"/>
            <a:ext cx="2581200" cy="1204920"/>
            <a:chOff x="1990800" y="4097160"/>
            <a:chExt cx="2581200" cy="1204920"/>
          </a:xfrm>
        </p:grpSpPr>
        <p:sp>
          <p:nvSpPr>
            <p:cNvPr id="79" name=""/>
            <p:cNvSpPr/>
            <p:nvPr/>
          </p:nvSpPr>
          <p:spPr>
            <a:xfrm>
              <a:off x="2484360" y="4097160"/>
              <a:ext cx="2087640" cy="863640"/>
            </a:xfrm>
            <a:custGeom>
              <a:avLst/>
              <a:gdLst/>
              <a:ahLst/>
              <a:rect l="l" t="t" r="r" b="b"/>
              <a:pathLst>
                <a:path w="816" h="317">
                  <a:moveTo>
                    <a:pt x="0" y="317"/>
                  </a:moveTo>
                  <a:lnTo>
                    <a:pt x="226" y="0"/>
                  </a:lnTo>
                  <a:lnTo>
                    <a:pt x="816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78160" y="4835520"/>
              <a:ext cx="7308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20800" y="4835520"/>
              <a:ext cx="71640" cy="71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90800" y="430992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32000" y="493380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11240" y="3213000"/>
            <a:ext cx="2112840" cy="1046160"/>
            <a:chOff x="1011240" y="3213000"/>
            <a:chExt cx="2112840" cy="1046160"/>
          </a:xfrm>
        </p:grpSpPr>
        <p:grpSp>
          <p:nvGrpSpPr>
            <p:cNvPr id="85" name=""/>
            <p:cNvGrpSpPr/>
            <p:nvPr/>
          </p:nvGrpSpPr>
          <p:grpSpPr>
            <a:xfrm>
              <a:off x="1476360" y="3213000"/>
              <a:ext cx="1295280" cy="503280"/>
              <a:chOff x="1476360" y="3213000"/>
              <a:chExt cx="1295280" cy="503280"/>
            </a:xfrm>
          </p:grpSpPr>
          <p:sp>
            <p:nvSpPr>
              <p:cNvPr id="86" name=""/>
              <p:cNvSpPr/>
              <p:nvPr/>
            </p:nvSpPr>
            <p:spPr>
              <a:xfrm>
                <a:off x="1476360" y="3213000"/>
                <a:ext cx="1295280" cy="503280"/>
              </a:xfrm>
              <a:custGeom>
                <a:avLst/>
                <a:gdLst/>
                <a:ahLst/>
                <a:rect l="l" t="t" r="r" b="b"/>
                <a:pathLst>
                  <a:path w="816" h="317">
                    <a:moveTo>
                      <a:pt x="0" y="317"/>
                    </a:moveTo>
                    <a:lnTo>
                      <a:pt x="226" y="0"/>
                    </a:lnTo>
                    <a:lnTo>
                      <a:pt x="816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ff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3360" y="3603600"/>
                <a:ext cx="73080" cy="7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17640" y="32907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14240" y="359712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052800" y="4187880"/>
              <a:ext cx="71280" cy="7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63640" y="371628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11240" y="321300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245200" y="3122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31291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25720" y="3141720"/>
            <a:ext cx="2342160" cy="2028600"/>
            <a:chOff x="6525720" y="3141720"/>
            <a:chExt cx="2342160" cy="2028600"/>
          </a:xfrm>
        </p:grpSpPr>
        <p:sp>
          <p:nvSpPr>
            <p:cNvPr id="96" name=""/>
            <p:cNvSpPr/>
            <p:nvPr/>
          </p:nvSpPr>
          <p:spPr>
            <a:xfrm rot="11238600">
              <a:off x="6628680" y="3368160"/>
              <a:ext cx="1461960" cy="1716120"/>
            </a:xfrm>
            <a:custGeom>
              <a:avLst/>
              <a:gdLst/>
              <a:ahLst/>
              <a:rect l="l" t="t" r="r" b="b"/>
              <a:pathLst>
                <a:path w="771" h="817">
                  <a:moveTo>
                    <a:pt x="0" y="726"/>
                  </a:moveTo>
                  <a:lnTo>
                    <a:pt x="46" y="0"/>
                  </a:lnTo>
                  <a:lnTo>
                    <a:pt x="771" y="817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9880" y="314172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15400" y="425304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99400" y="4844880"/>
              <a:ext cx="7128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8920" y="3699000"/>
              <a:ext cx="7308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23160" y="3397320"/>
              <a:ext cx="71280" cy="7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19880" y="3645000"/>
            <a:ext cx="1716120" cy="1520640"/>
            <a:chOff x="5519880" y="3645000"/>
            <a:chExt cx="1716120" cy="1520640"/>
          </a:xfrm>
        </p:grpSpPr>
        <p:grpSp>
          <p:nvGrpSpPr>
            <p:cNvPr id="103" name=""/>
            <p:cNvGrpSpPr/>
            <p:nvPr/>
          </p:nvGrpSpPr>
          <p:grpSpPr>
            <a:xfrm>
              <a:off x="5519880" y="3645000"/>
              <a:ext cx="1716120" cy="1520640"/>
              <a:chOff x="5519880" y="3645000"/>
              <a:chExt cx="1716120" cy="1520640"/>
            </a:xfrm>
          </p:grpSpPr>
          <p:sp>
            <p:nvSpPr>
              <p:cNvPr id="104" name=""/>
              <p:cNvSpPr/>
              <p:nvPr/>
            </p:nvSpPr>
            <p:spPr>
              <a:xfrm>
                <a:off x="6243480" y="4797360"/>
                <a:ext cx="8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12000" y="3645000"/>
                <a:ext cx="1224000" cy="1296720"/>
              </a:xfrm>
              <a:custGeom>
                <a:avLst/>
                <a:gdLst/>
                <a:ahLst/>
                <a:rect l="l" t="t" r="r" b="b"/>
                <a:pathLst>
                  <a:path w="771" h="817">
                    <a:moveTo>
                      <a:pt x="0" y="726"/>
                    </a:moveTo>
                    <a:lnTo>
                      <a:pt x="46" y="0"/>
                    </a:lnTo>
                    <a:lnTo>
                      <a:pt x="771" y="817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6600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19880" y="4051440"/>
                <a:ext cx="8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084720" y="4672080"/>
              <a:ext cx="7308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67440" y="4782960"/>
              <a:ext cx="71640" cy="7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30800" y="3860640"/>
              <a:ext cx="7164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771640" y="5402160"/>
            <a:ext cx="3816360" cy="1266840"/>
            <a:chOff x="2771640" y="5402160"/>
            <a:chExt cx="3816360" cy="12668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552560" y="5506920"/>
                  <a:ext cx="23508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2771640" y="5402160"/>
              <a:ext cx="381636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125"/>
                </a:spcBef>
                <a:spcAft>
                  <a:spcPts val="1125"/>
                </a:spcAft>
                <a:tabLst>
                  <a:tab algn="l" pos="0"/>
                  <a:tab algn="l" pos="1170000"/>
                  <a:tab algn="l" pos="1438200"/>
                  <a:tab algn="l" pos="2514600"/>
                  <a:tab algn="l" pos="278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.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170000"/>
                  <a:tab algn="l" pos="1438200"/>
                  <a:tab algn="l" pos="2514600"/>
                  <a:tab algn="l" pos="278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4565520" y="6130800"/>
                  <a:ext cx="2077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276960" y="2509920"/>
            <a:ext cx="17460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9d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90680" y="2421000"/>
            <a:ext cx="431640" cy="2015640"/>
            <a:chOff x="1390680" y="2421000"/>
            <a:chExt cx="431640" cy="2015640"/>
          </a:xfrm>
        </p:grpSpPr>
        <p:sp>
          <p:nvSpPr>
            <p:cNvPr id="116" name=""/>
            <p:cNvSpPr/>
            <p:nvPr/>
          </p:nvSpPr>
          <p:spPr>
            <a:xfrm>
              <a:off x="1390680" y="2421000"/>
              <a:ext cx="431640" cy="1901520"/>
            </a:xfrm>
            <a:prstGeom prst="triangle">
              <a:avLst>
                <a:gd name="adj" fmla="val 50000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33600" y="4322520"/>
              <a:ext cx="144360" cy="1141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583400" y="3068640"/>
            <a:ext cx="287280" cy="576000"/>
            <a:chOff x="7583400" y="3068640"/>
            <a:chExt cx="287280" cy="576000"/>
          </a:xfrm>
        </p:grpSpPr>
        <p:sp>
          <p:nvSpPr>
            <p:cNvPr id="119" name=""/>
            <p:cNvSpPr/>
            <p:nvPr/>
          </p:nvSpPr>
          <p:spPr>
            <a:xfrm rot="10800000">
              <a:off x="7583400" y="3101040"/>
              <a:ext cx="287280" cy="543600"/>
            </a:xfrm>
            <a:prstGeom prst="triangle">
              <a:avLst>
                <a:gd name="adj" fmla="val 50000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7679880" y="3068640"/>
              <a:ext cx="95760" cy="3240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606680" y="2421000"/>
            <a:ext cx="6121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606680" y="3068280"/>
            <a:ext cx="61214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06680" y="2421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28120" y="306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6680" y="4581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59400" y="4581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174680" y="234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15400" y="3068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9112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41560" y="46926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to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1600" y="46864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0040" y="3078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30844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 Lens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0040" y="2060640"/>
            <a:ext cx="8913960" cy="3556440"/>
            <a:chOff x="230040" y="2060640"/>
            <a:chExt cx="8913960" cy="3556440"/>
          </a:xfrm>
        </p:grpSpPr>
        <p:sp>
          <p:nvSpPr>
            <p:cNvPr id="136" name=""/>
            <p:cNvSpPr/>
            <p:nvPr/>
          </p:nvSpPr>
          <p:spPr>
            <a:xfrm>
              <a:off x="6276960" y="2509920"/>
              <a:ext cx="174600" cy="172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9dd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390680" y="2421000"/>
              <a:ext cx="431640" cy="2015640"/>
              <a:chOff x="1390680" y="2421000"/>
              <a:chExt cx="431640" cy="20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1390680" y="2421000"/>
                <a:ext cx="431640" cy="1901520"/>
              </a:xfrm>
              <a:prstGeom prst="triangle">
                <a:avLst>
                  <a:gd name="adj" fmla="val 50000"/>
                </a:avLst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33600" y="4322520"/>
                <a:ext cx="144360" cy="11412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583400" y="3068640"/>
              <a:ext cx="287280" cy="576000"/>
              <a:chOff x="7583400" y="3068640"/>
              <a:chExt cx="287280" cy="576000"/>
            </a:xfrm>
          </p:grpSpPr>
          <p:sp>
            <p:nvSpPr>
              <p:cNvPr id="141" name=""/>
              <p:cNvSpPr/>
              <p:nvPr/>
            </p:nvSpPr>
            <p:spPr>
              <a:xfrm rot="10800000">
                <a:off x="7583400" y="3101040"/>
                <a:ext cx="287280" cy="543600"/>
              </a:xfrm>
              <a:prstGeom prst="triangle">
                <a:avLst>
                  <a:gd name="adj" fmla="val 50000"/>
                </a:avLst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0800000">
                <a:off x="7679880" y="3068640"/>
                <a:ext cx="95760" cy="32400"/>
              </a:xfrm>
              <a:prstGeom prst="rect">
                <a:avLst/>
              </a:prstGeom>
              <a:solidFill>
                <a:srgbClr val="663300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606680" y="2421000"/>
              <a:ext cx="612144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606680" y="3068280"/>
              <a:ext cx="61214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606680" y="242100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28120" y="3068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6680" y="4581360"/>
              <a:ext cx="47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9400" y="458136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174680" y="234900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15400" y="3068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1120" y="2060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62360" y="4692600"/>
              <a:ext cx="216036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to 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0800" y="4686480"/>
              <a:ext cx="18716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cal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5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0040" y="3078000"/>
              <a:ext cx="93672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56720" y="3084480"/>
              <a:ext cx="118728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4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5280" y="3573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argement Factor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4627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40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597640" y="5589720"/>
            <a:ext cx="1584360" cy="576000"/>
            <a:chOff x="5597640" y="5589720"/>
            <a:chExt cx="1584360" cy="576000"/>
          </a:xfrm>
        </p:grpSpPr>
        <p:sp>
          <p:nvSpPr>
            <p:cNvPr id="160" name=""/>
            <p:cNvSpPr/>
            <p:nvPr/>
          </p:nvSpPr>
          <p:spPr>
            <a:xfrm>
              <a:off x="5724360" y="5589720"/>
              <a:ext cx="1295640" cy="57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97640" y="56358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= 4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32320" y="3301920"/>
            <a:ext cx="1152360" cy="1015920"/>
            <a:chOff x="3532320" y="3301920"/>
            <a:chExt cx="1152360" cy="1015920"/>
          </a:xfrm>
        </p:grpSpPr>
        <p:sp>
          <p:nvSpPr>
            <p:cNvPr id="163" name=""/>
            <p:cNvSpPr/>
            <p:nvPr/>
          </p:nvSpPr>
          <p:spPr>
            <a:xfrm>
              <a:off x="3532320" y="3301920"/>
              <a:ext cx="115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60840" y="3812760"/>
              <a:ext cx="9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71960" y="4510080"/>
            <a:ext cx="2016000" cy="1015920"/>
            <a:chOff x="3171960" y="4510080"/>
            <a:chExt cx="2016000" cy="1015920"/>
          </a:xfrm>
        </p:grpSpPr>
        <p:sp>
          <p:nvSpPr>
            <p:cNvPr id="166" name=""/>
            <p:cNvSpPr/>
            <p:nvPr/>
          </p:nvSpPr>
          <p:spPr>
            <a:xfrm>
              <a:off x="3532320" y="4510080"/>
              <a:ext cx="1655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00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71960" y="478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76680" y="501480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164040" y="5737320"/>
            <a:ext cx="1807560" cy="1015920"/>
            <a:chOff x="3164040" y="5737320"/>
            <a:chExt cx="1807560" cy="1015920"/>
          </a:xfrm>
        </p:grpSpPr>
        <p:sp>
          <p:nvSpPr>
            <p:cNvPr id="170" name=""/>
            <p:cNvSpPr/>
            <p:nvPr/>
          </p:nvSpPr>
          <p:spPr>
            <a:xfrm>
              <a:off x="3316320" y="5737320"/>
              <a:ext cx="1655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64040" y="59850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6680" y="6210360"/>
              <a:ext cx="93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79600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427800" y="3373560"/>
            <a:ext cx="2716200" cy="1015920"/>
            <a:chOff x="6427800" y="3373560"/>
            <a:chExt cx="2716200" cy="1015920"/>
          </a:xfrm>
        </p:grpSpPr>
        <p:sp>
          <p:nvSpPr>
            <p:cNvPr id="175" name=""/>
            <p:cNvSpPr/>
            <p:nvPr/>
          </p:nvSpPr>
          <p:spPr>
            <a:xfrm>
              <a:off x="7477200" y="3660840"/>
              <a:ext cx="166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14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427800" y="3373560"/>
              <a:ext cx="936720" cy="1015920"/>
              <a:chOff x="6427800" y="3373560"/>
              <a:chExt cx="936720" cy="1015920"/>
            </a:xfrm>
          </p:grpSpPr>
          <p:sp>
            <p:nvSpPr>
              <p:cNvPr id="177" name=""/>
              <p:cNvSpPr/>
              <p:nvPr/>
            </p:nvSpPr>
            <p:spPr>
              <a:xfrm>
                <a:off x="6427800" y="3373560"/>
                <a:ext cx="936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27800" y="3878280"/>
                <a:ext cx="93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07920" y="150840"/>
            <a:ext cx="7272360" cy="28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 flipH="1" rot="19906200">
            <a:off x="5579640" y="476280"/>
            <a:ext cx="2886120" cy="971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2626920" y="1557360"/>
            <a:ext cx="3745080" cy="122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700360" y="1557360"/>
            <a:ext cx="3672000" cy="15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0605800">
            <a:off x="2479320" y="2790720"/>
            <a:ext cx="287280" cy="28908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509256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tellite 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656400"/>
            <a:ext cx="180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mage: NA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00:40:41Z</dcterms:created>
  <dc:creator>MAitchison</dc:creator>
  <dc:description/>
  <dc:language>en-US</dc:language>
  <cp:lastModifiedBy>M Aitchison</cp:lastModifiedBy>
  <dcterms:modified xsi:type="dcterms:W3CDTF">2006-06-19T20:27:24Z</dcterms:modified>
  <cp:revision>37</cp:revision>
  <dc:subject/>
  <dc:title>Similar Triangles &amp; Photography</dc:title>
</cp:coreProperties>
</file>