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eep.wav" ContentType="audio/x-wav"/>
  <Override PartName="/ppt/media/image3.jpeg" ContentType="image/jpeg"/>
  <Override PartName="/ppt/media/image2.jpeg" ContentType="image/jpeg"/>
  <Override PartName="/ppt/media/Thunk.wav" ContentType="audio/x-wav"/>
  <Override PartName="/ppt/media/voltage.wav" ContentType="audio/x-wav"/>
  <Override PartName="/ppt/media/image4.jpeg" ContentType="image/jpeg"/>
  <Override PartName="/ppt/media/wind.wav" ContentType="audio/x-wav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DE9-8EAF-4FCC-929B-0BD4AC5F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CB5-31A5-4F4A-815C-627BD37C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FB6-770B-4CB9-BDDF-1CC8D4BD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214-A259-42BC-8D28-E71EDEAA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98F-4AFA-4950-9BD6-7E140123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8F7-DD58-4D3B-821E-CD924785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299-7FD2-4D0C-AAA0-BCD81AF0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14B-759A-41BC-8562-B549F785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F9A-9381-496D-8B73-312F0573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9FE-D1F3-40F7-B951-FCEF0223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EC9-4AC0-4E8A-BCFC-604DBEA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794-B2D4-4109-ABDC-74E1AF4F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4AF7-8874-4E42-A0E9-8E9BD12CA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Thunk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6520" cy="6994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4067280"/>
            <a:ext cx="41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Standard Form   Rec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27520" y="4194000"/>
            <a:ext cx="6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2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2233800" cy="2141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diame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 000 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201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093080" y="549360"/>
            <a:ext cx="1390680" cy="1409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76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201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92360" y="1341360"/>
            <a:ext cx="280836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39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3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62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Can you write these numbers in standard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701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701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701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701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78120" y="5557680"/>
            <a:ext cx="10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9640" y="62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How di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9573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39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2080" y="3156120"/>
            <a:ext cx="150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3 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76520" y="43480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70400" y="5556240"/>
            <a:ext cx="10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45040" y="1957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56320" y="315756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34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554832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4240" y="1957320"/>
            <a:ext cx="1368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83360" y="3152880"/>
            <a:ext cx="1368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19760" y="4363920"/>
            <a:ext cx="1368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56200" y="5562720"/>
            <a:ext cx="1368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1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101"/>
                            </p:stCondLst>
                            <p:childTnLst>
                              <p:par>
                                <p:cTn id="22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601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2.22222E-006 L 0.15348 2.22222E-006 E">
                                      <p:cBhvr>
                                        <p:cTn id="24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601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2153 3.33333E-006 E">
                                      <p:cBhvr>
                                        <p:cTn id="27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10642 7.40741E-007 E">
                                      <p:cBhvr>
                                        <p:cTn id="30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L 0.07101 3.33333E-006 E">
                                      <p:cBhvr>
                                        <p:cTn id="33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L 0.07778 1.85185E-006 E">
                                      <p:cBhvr>
                                        <p:cTn id="33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95520" y="452520"/>
            <a:ext cx="5952960" cy="5952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39000" y="469800"/>
            <a:ext cx="196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eckbook"/>
              </a:rPr>
              <a:t>You ar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841720" y="843120"/>
            <a:ext cx="1165320" cy="384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30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heckbook"/>
              </a:rPr>
              <a:t>World Popula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 450 000 000 = 6.45 billion = 6.4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× 1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901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901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96120" y="0"/>
            <a:ext cx="2747880" cy="253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000 000 000 000 000 000 000 000 000 000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 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201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602"/>
                            </p:stCondLst>
                            <p:childTnLst>
                              <p:par>
                                <p:cTn id="22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animMotion origin="layout" path="M -2.77778E-006 -3.7037E-006 C -0.01337 -0.0199 -0.06718 -0.02268 -0.1151 0.01135 C -0.15607 0.07338 -0.18958 0.11065 -0.21962 0.31274 C -0.28802 0.16181 -0.29132 0.2507 -0.33298 0.23727 C -0.38524 0.23727 -0.47639 0.37315 -0.47639 0.52894 C -0.47639 0.4507 -0.50468 0.46621 -0.52795 0.45278 C -0.55416 0.45278 -0.58194 0.52616 -0.58194 0.60649 C -0.58194 0.56621 -0.58646 0.52616 -0.59965 0.52616 C -0.6125 0.52616 -0.63715 0.57292 -0.63715 0.61111 C -0.63715 0.59074 -0.64271 0.57755 -0.64913 0.57755 C -0.65225 0.57755 -0.66198 0.59769 -0.66198 0.61806 C -0.66198 0.60787 -0.66545 0.59769 -0.66892 0.59769 C -0.66892 0.59514 -0.67569 0.60787 -0.67569 0.61806 C -0.67569 0.61274 -0.67569 0.60787 -0.67916 0.60787 C -0.67916 0.61042 -0.68264 0.61297 -0.68264 0.61806 C -0.68264 0.61528 -0.68264 0.61274 -0.68264 0.61042 C -0.68611 0.61042 -0.68611 0.61297 -0.68611 0.61551 C -0.68923 0.61551 -0.68923 0.61297 -0.68923 0.61042 C -0.69271 0.61042 -0.70399 0.62662 -0.70399 0.6294 E">
                                      <p:cBhvr>
                                        <p:cTn id="23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000 000 000 000 000 000 000 000 000 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01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702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Rot by="43200000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2000" y="260280"/>
            <a:ext cx="2233440" cy="214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 000 000 000 000 000 000 000 000 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201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202"/>
                            </p:stCondLst>
                            <p:childTnLst>
                              <p:par>
                                <p:cTn id="52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Motion origin="layout" path="M 2.22222E-006 1.48148E-006 C -0.07465 0.01481 -0.07622 0.04537 -0.07622 0.07546 C -0.07622 0.10324 -0.07552 0.13125 -0.0033 0.13125 C 0.06857 0.13125 0.09878 0.11435 0.09878 0.08657 C 0.09878 0.05648 0.06632 0.04537 -0.00573 0.06528 C -0.07674 0.08796 -0.10643 0.12315 -0.10643 0.15092 C -0.10643 0.17917 -0.07465 0.2044 -0.0033 0.2044 C 0.06857 0.2044 0.10555 0.18796 0.10555 0.15972 C 0.10555 0.13194 0.06632 0.11829 -0.00452 0.13866 C -0.07674 0.15903 -0.12934 0.19653 -0.12934 0.22454 C -0.12934 0.25486 -0.07465 0.27754 -0.00243 0.27754 C 0.06857 0.27754 0.11389 0.25231 0.11389 0.22199 C 0.11389 0.19676 0.06632 0.19167 -0.00452 0.20926 C -0.07552 0.22963 -0.17795 0.27407 -0.17795 0.30208 C -0.17795 0.32986 -0.07344 0.34815 -0.00243 0.34815 C 0.07083 0.34815 0.12222 0.32986 0.12222 0.30208 C 0.12222 0.27407 0.06753 0.26227 -0.0033 0.28264 C -0.07465 0.30278 -0.21285 0.34583 -0.21285 0.37315 C -0.21285 0.4037 -0.07344 0.41875 -0.00122 0.41875 C 0.07083 0.41875 0.12222 0.39629 0.12222 0.36875 C 0.12222 0.34143 0.06753 0.3331 -0.0033 0.35347 C -0.07465 0.37338 -0.29618 0.42153 -0.29618 0.44653 C -0.29618 0.47454 -0.07257 0.48958 -0.00122 0.48958 C 0.07083 0.48958 0.11719 0.47222 0.11719 0.44421 C 0.11719 0.41921 0.06857 0.40625 -0.0033 0.4243 C -0.07465 0.44421 -0.39792 0.49421 -0.39792 0.52199 C -0.39792 0.54722 -0.07257 0.56273 2.22222E-006 0.56273 C 0.07205 0.56273 0.11215 0.54329 0.11215 0.51528 C 0.11215 0.4875 0.06857 0.47754 -0.00243 0.49745 C -0.07344 0.51759 -0.63386 0.5919 -0.63281 0.61991 C -0.63195 0.64768 -0.07379 0.66875 -0.00122 0.66875 C 0.07083 0.66875 0.10555 0.6162 0.10555 0.58866 C 0.10555 0.56319 0.07083 0.54815 2.22222E-006 0.57083 E">
                                      <p:cBhvr>
                                        <p:cTn id="53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390680" cy="1409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0 000 000 000 000 000 000 000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 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1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902"/>
                            </p:stCondLst>
                            <p:childTnLst>
                              <p:par>
                                <p:cTn id="67" nodeType="after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unk.wav"/>
                                        </p:tgtEl>
                                      </p:cMediaNode>
                                    </p:audio>
                                    <p:animMotion origin="layout" path="M 1.11022E-016 -0.00046 L 0.09288 0.22569 L -0.05712 0.72801 L -0.30868 -0.08056 L -0.57708 0.7169 L -0.77049 0.29931 L -0.54705 -0.06944 L -0.25208 0.72593 L 1.11022E-016 -0.00046 Z">
                                      <p:cBhvr>
                                        <p:cTn id="68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1341360"/>
            <a:ext cx="84250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2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Can you write these numbers in standard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701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701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701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701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979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62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How di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7720" y="31561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8640" y="3171960"/>
            <a:ext cx="8137440" cy="50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76640" y="31561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3322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38920" y="4348080"/>
            <a:ext cx="8137800" cy="50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4332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7720" y="55404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32800" y="5556240"/>
            <a:ext cx="8137440" cy="50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76640" y="55404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38920" y="2004840"/>
            <a:ext cx="8137800" cy="50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67280" y="198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01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101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99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101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101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113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115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127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141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143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747880" cy="2538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diame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390 000 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201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23236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diame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3 000 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201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3:05:49Z</dcterms:created>
  <dc:creator>MAitchison</dc:creator>
  <dc:description/>
  <dc:language>en-US</dc:language>
  <cp:lastModifiedBy>M Aitchison</cp:lastModifiedBy>
  <dcterms:modified xsi:type="dcterms:W3CDTF">2005-08-25T23:56:38Z</dcterms:modified>
  <cp:revision>28</cp:revision>
  <dc:subject/>
  <dc:title>Standard Form - Planets</dc:title>
</cp:coreProperties>
</file>